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03BA12-B3C7-43A2-8956-EA6525912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124080" y="6248520"/>
            <a:ext cx="2895480" cy="51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(double click on speaker ico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861080" y="4572000"/>
            <a:ext cx="291636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2f342"/>
                </a:solidFill>
                <a:latin typeface="Arial"/>
                <a:ea typeface="Arial"/>
              </a:rPr>
              <a:t>If your cow sounds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2f342"/>
                </a:solidFill>
                <a:latin typeface="Arial"/>
                <a:ea typeface="Arial"/>
              </a:rPr>
              <a:t>may we suggest the f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16200" y="4548240"/>
            <a:ext cx="280188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If your cow sound like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0033"/>
                </a:solidFill>
                <a:latin typeface="Arial"/>
                <a:ea typeface="Arial"/>
              </a:rPr>
              <a:t>then fire up the barbec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452680" y="2533680"/>
            <a:ext cx="1827360" cy="1809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95880" y="2533680"/>
            <a:ext cx="1839960" cy="1822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195720" y="5025960"/>
            <a:ext cx="306360" cy="30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862600" y="5024520"/>
            <a:ext cx="307800" cy="307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281240" y="457200"/>
            <a:ext cx="628344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ff0033"/>
                </a:solidFill>
                <a:latin typeface="Arial"/>
                <a:ea typeface="Arial"/>
              </a:rPr>
              <a:t>Public Service Announc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00000" y="1585800"/>
            <a:ext cx="6977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to identify if your cow has mad cow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ven M. Sokol</dc:creator>
  <dc:description/>
  <dc:language>en-US</dc:language>
  <cp:lastModifiedBy>Steven M. Sokol</cp:lastModifiedBy>
  <cp:revision>0</cp:revision>
  <dc:subject/>
  <dc:title>No Slide Title</dc:title>
</cp:coreProperties>
</file>